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WooHoo! Second Seme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2008-2009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calculu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Back to the law of sines!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mportant paper number 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First, let’s find the area of an oblique triangle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area of any triangle is one-half the product of the lengths of two sides time the sine of their included angle.  That is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a=½bcsinA=½absinC=½acSinB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nd the area of a triangular lot having two sides of lengths 90 meters and 52 meters and an included angle of 102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=5°15’, b=67, c=8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pplications of the Law of Sin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u are standing 40 meters from the base of a tree that is leaning 8° from vertical away from you.  The angle of elevation from your feet to the top of the tree is 20°50’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*Draw a triangle that represents the problem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*Write an equation involving the unknown slant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ight of the tre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*Find the slant height of the tree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circular arc of a railroad curve has a chord of length 3000 feet and a central angle of 40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raw a diagram to represent the problem.  Show the known quantities on the diagram and use variables r and s to represent the radius of the arc and the length of the arc respectivel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nd the radius r of the circular arc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nd the length s of the circular arc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.  434-435 (23-31) od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3:53:35Z</dcterms:created>
  <dc:creator>abeason</dc:creator>
  <dc:description/>
  <cp:keywords/>
  <dc:language>en-US</dc:language>
  <cp:lastModifiedBy>abeason</cp:lastModifiedBy>
  <dcterms:modified xsi:type="dcterms:W3CDTF">2009-02-03T14:37:26Z</dcterms:modified>
  <cp:revision>3</cp:revision>
  <dc:subject/>
  <dc:title>WooHoo! Second Semester  2008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775751033</vt:lpwstr>
  </property>
</Properties>
</file>